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98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98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198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2076-3A42-4D21-90E9-0E098B583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198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3624-F5DD-44EE-AFF7-E1C95B61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198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B734-0131-4852-83F4-34AA0F06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198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49F5-A014-4436-9CF5-FF71857D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98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1DFD-943C-42FC-8F11-361D024E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43000" y="19800"/>
            <a:ext cx="7772400" cy="721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61C3-F031-428B-8C26-99B174A3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198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2A52-4095-4805-9220-6AEADAA8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198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198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7F76-6A87-4EA7-933A-4A2170B3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198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7676-F453-4C0E-9302-BE1FA216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198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6A6C-2E47-46F6-AEBA-C1B396C7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198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D0AF-22B0-4E7A-BA4A-362DF071A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198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B248-31BF-4CFC-B751-22A73594F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198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98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98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143000" y="19800"/>
            <a:ext cx="7772400" cy="721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98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198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198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fc50fc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fc50fc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fc50f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fc50f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98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1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fc50fc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fc50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5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fc50fc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fc50fc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fc50f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fc50f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79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4160" y="108684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1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0AFA-9FAF-45A7-8930-AA0649902C65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2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3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DEF9-E8D4-4EF3-BDF3-2D735D064C0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914400" algn="ctr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3" marL="1371600" algn="ctr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4" marL="1828800" algn="ctr">
              <a:spcBef>
                <a:spcPts val="700"/>
              </a:spcBef>
              <a:buClr>
                <a:srgbClr val="ffffff"/>
              </a:buClr>
              <a:buFont typeface="Arial Black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5" marL="1828800">
              <a:spcBef>
                <a:spcPts val="700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6" marL="1828800">
              <a:spcBef>
                <a:spcPts val="700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&#21069;&#35328;.ppt#1. &#35745;&#31639;&#26426;&#25991;&#21270;&#22522;&#30784;&#25945;&#31243; (Windows 98+Office 2000&#29256;)" TargetMode="External"/><Relationship Id="rId2" Type="http://schemas.openxmlformats.org/officeDocument/2006/relationships/hyperlink" Target="file:///&#21069;&#35328;.ppt#1. &#35745;&#31639;&#26426;&#25991;&#21270;&#22522;&#30784;&#25945;&#31243; (Windows 98+Office 2000&#29256;)" TargetMode="External"/><Relationship Id="rId3" Type="http://schemas.openxmlformats.org/officeDocument/2006/relationships/hyperlink" Target="file:///&#21069;&#35328;.ppt#1. &#35745;&#31639;&#26426;&#25991;&#21270;&#22522;&#30784;&#25945;&#31243; (Windows 98+Office 2000&#29256;)" TargetMode="External"/><Relationship Id="rId4" Type="http://schemas.openxmlformats.org/officeDocument/2006/relationships/hyperlink" Target="file:///&#21069;&#35328;.ppt#1. &#35745;&#31639;&#26426;&#25991;&#21270;&#22522;&#30784;&#25945;&#31243; (Windows 98+Office 2000&#29256;)" TargetMode="External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31532;1&#31456;%20%20&#35745;&#31639;&#26426;&#22522;&#30784;&#30693;&#35782;.ppt#1. &#31532;1&#31456;    &#35745;&#31639;&#26426;&#22522;&#30784;&#30693;&#35782;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31532;2&#31456;%20%20%20%20&#20013;&#25991;Windows%2098&#25805;&#20316;&#31995;&#32479;.ppt#1. &#31532;2&#31456;    &#20013;&#25991;Windows 98&#25805;&#20316;&#31995;&#32479;" TargetMode="External"/><Relationship Id="rId2" Type="http://schemas.openxmlformats.org/officeDocument/2006/relationships/hyperlink" Target="file:///&#31532;2&#31456;%20%20%20%20&#20013;&#25991;Windows%2098&#25805;&#20316;&#31995;&#32479;.ppt#1. &#31532;2&#31456;    &#20013;&#25991;Windows 98&#25805;&#20316;&#31995;&#32479;" TargetMode="External"/><Relationship Id="rId3" Type="http://schemas.openxmlformats.org/officeDocument/2006/relationships/hyperlink" Target="file:///&#31532;2&#31456;%20%20%20%20&#20013;&#25991;Windows%2098&#25805;&#20316;&#31995;&#32479;.ppt#1. &#31532;2&#31456;    &#20013;&#25991;Windows 98&#25805;&#20316;&#31995;&#32479;" TargetMode="External"/><Relationship Id="rId4" Type="http://schemas.openxmlformats.org/officeDocument/2006/relationships/hyperlink" Target="file:///&#31532;2&#31456;%20%20%20%20&#20013;&#25991;Windows%2098&#25805;&#20316;&#31995;&#32479;.ppt#1. &#31532;2&#31456;    &#20013;&#25991;Windows 98&#25805;&#20316;&#31995;&#32479;" TargetMode="External"/><Relationship Id="rId5" Type="http://schemas.openxmlformats.org/officeDocument/2006/relationships/hyperlink" Target="file:///&#31532;2&#31456;%20%20%20%20&#20013;&#25991;Windows%2098&#25805;&#20316;&#31995;&#32479;.ppt#1. &#31532;2&#31456;    &#20013;&#25991;Windows 98&#25805;&#20316;&#31995;&#32479;" TargetMode="External"/><Relationship Id="rId6" Type="http://schemas.openxmlformats.org/officeDocument/2006/relationships/hyperlink" Target="file:///&#31532;2&#31456;%20%20%20%20&#20013;&#25991;Windows%2098&#25805;&#20316;&#31995;&#32479;.ppt#1. &#31532;2&#31456;    &#20013;&#25991;Windows 98&#25805;&#20316;&#31995;&#32479;" TargetMode="External"/><Relationship Id="rId7" Type="http://schemas.openxmlformats.org/officeDocument/2006/relationships/hyperlink" Target="file:///&#31532;2&#31456;%20%20%20%20&#20013;&#25991;Windows%2098&#25805;&#20316;&#31995;&#32479;.ppt#1. &#31532;2&#31456;    &#20013;&#25991;Windows 98&#25805;&#20316;&#31995;&#32479;" TargetMode="Externa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31532;3&#31456;%20%20%20%20&#25991;&#23383;&#22788;&#29702;&#31995;&#32479;Word%202000.ppt#1. &#31532;3&#31456;    &#25991;&#23383;&#22788;&#29702;&#31995;&#32479;Word 2000" TargetMode="External"/><Relationship Id="rId2" Type="http://schemas.openxmlformats.org/officeDocument/2006/relationships/hyperlink" Target="file:///&#31532;3&#31456;%20%20%20%20&#25991;&#23383;&#22788;&#29702;&#31995;&#32479;Word%202000.ppt#1. &#31532;3&#31456;    &#25991;&#23383;&#22788;&#29702;&#31995;&#32479;Word 2000" TargetMode="External"/><Relationship Id="rId3" Type="http://schemas.openxmlformats.org/officeDocument/2006/relationships/hyperlink" Target="file:///&#31532;3&#31456;%20%20%20%20&#25991;&#23383;&#22788;&#29702;&#31995;&#32479;Word%202000.ppt#1. &#31532;3&#31456;    &#25991;&#23383;&#22788;&#29702;&#31995;&#32479;Word 2000" TargetMode="External"/><Relationship Id="rId4" Type="http://schemas.openxmlformats.org/officeDocument/2006/relationships/hyperlink" Target="file:///&#31532;3&#31456;%20%20%20%20&#25991;&#23383;&#22788;&#29702;&#31995;&#32479;Word%202000.ppt#1. &#31532;3&#31456;    &#25991;&#23383;&#22788;&#29702;&#31995;&#32479;Word 2000" TargetMode="External"/><Relationship Id="rId5" Type="http://schemas.openxmlformats.org/officeDocument/2006/relationships/hyperlink" Target="file:///&#31532;3&#31456;%20%20%20%20&#25991;&#23383;&#22788;&#29702;&#31995;&#32479;Word%202000.ppt#1. &#31532;3&#31456;    &#25991;&#23383;&#22788;&#29702;&#31995;&#32479;Word 2000" TargetMode="External"/><Relationship Id="rId6" Type="http://schemas.openxmlformats.org/officeDocument/2006/relationships/hyperlink" Target="file:///&#31532;3&#31456;%20%20%20%20&#25991;&#23383;&#22788;&#29702;&#31995;&#32479;Word%202000.ppt#1. &#31532;3&#31456;    &#25991;&#23383;&#22788;&#29702;&#31995;&#32479;Word 2000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31532;4&#31456;%20%20%20%20&#30005;&#23376;&#34920;&#26684;%20Excel%202000.ppt#1. &#31532;4&#31456;    &#30005;&#23376;&#34920;&#26684; Excel 2000" TargetMode="External"/><Relationship Id="rId2" Type="http://schemas.openxmlformats.org/officeDocument/2006/relationships/hyperlink" Target="file:///&#31532;4&#31456;%20%20%20%20&#30005;&#23376;&#34920;&#26684;%20Excel%202000.ppt#1. &#31532;4&#31456;    &#30005;&#23376;&#34920;&#26684; Excel 2000" TargetMode="External"/><Relationship Id="rId3" Type="http://schemas.openxmlformats.org/officeDocument/2006/relationships/hyperlink" Target="file:///&#31532;4&#31456;%20%20%20%20&#30005;&#23376;&#34920;&#26684;%20Excel%202000.ppt#1. &#31532;4&#31456;    &#30005;&#23376;&#34920;&#26684; Excel 2000" TargetMode="External"/><Relationship Id="rId4" Type="http://schemas.openxmlformats.org/officeDocument/2006/relationships/hyperlink" Target="file:///&#31532;4&#31456;%20%20%20%20&#30005;&#23376;&#34920;&#26684;%20Excel%202000.ppt#1. &#31532;4&#31456;    &#30005;&#23376;&#34920;&#26684; Excel 2000" TargetMode="External"/><Relationship Id="rId5" Type="http://schemas.openxmlformats.org/officeDocument/2006/relationships/hyperlink" Target="file:///&#31532;4&#31456;%20%20%20%20&#30005;&#23376;&#34920;&#26684;%20Excel%202000.ppt#1. &#31532;4&#31456;    &#30005;&#23376;&#34920;&#26684; Excel 2000" TargetMode="External"/><Relationship Id="rId6" Type="http://schemas.openxmlformats.org/officeDocument/2006/relationships/hyperlink" Target="file:///&#31532;4&#31456;%20%20%20%20&#30005;&#23376;&#34920;&#26684;%20Excel%202000.ppt#1. &#31532;4&#31456;    &#30005;&#23376;&#34920;&#26684; Excel 2000" TargetMode="External"/><Relationship Id="rId7" Type="http://schemas.openxmlformats.org/officeDocument/2006/relationships/hyperlink" Target="file:///&#31532;4&#31456;%20%20%20%20&#30005;&#23376;&#34920;&#26684;%20Excel%202000.ppt#1. &#31532;4&#31456;    &#30005;&#23376;&#34920;&#26684; Excel 2000" TargetMode="External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31532;5&#31456;%20%20%20%20&#20013;&#25991;&#28436;&#31034;&#36719;&#20214;PowerPoint%202000.ppt#1. &#31532;5&#31456;    &#20013;&#25991;&#28436;&#31034;&#36719;&#20214;PowerPoint 2000" TargetMode="External"/><Relationship Id="rId2" Type="http://schemas.openxmlformats.org/officeDocument/2006/relationships/hyperlink" Target="file:///&#31532;5&#31456;%20%20%20%20&#20013;&#25991;&#28436;&#31034;&#36719;&#20214;PowerPoint%202000.ppt#1. &#31532;5&#31456;    &#20013;&#25991;&#28436;&#31034;&#36719;&#20214;PowerPoint 2000" TargetMode="External"/><Relationship Id="rId3" Type="http://schemas.openxmlformats.org/officeDocument/2006/relationships/hyperlink" Target="file:///&#31532;5&#31456;%20%20%20%20&#20013;&#25991;&#28436;&#31034;&#36719;&#20214;PowerPoint%202000.ppt#1. &#31532;5&#31456;    &#20013;&#25991;&#28436;&#31034;&#36719;&#20214;PowerPoint 2000" TargetMode="External"/><Relationship Id="rId4" Type="http://schemas.openxmlformats.org/officeDocument/2006/relationships/hyperlink" Target="file:///&#31532;5&#31456;%20%20%20%20&#20013;&#25991;&#28436;&#31034;&#36719;&#20214;PowerPoint%202000.ppt#1. &#31532;5&#31456;    &#20013;&#25991;&#28436;&#31034;&#36719;&#20214;PowerPoint 2000" TargetMode="External"/><Relationship Id="rId5" Type="http://schemas.openxmlformats.org/officeDocument/2006/relationships/hyperlink" Target="file:///&#31532;5&#31456;%20%20%20%20&#20013;&#25991;&#28436;&#31034;&#36719;&#20214;PowerPoint%202000.ppt#1. &#31532;5&#31456;    &#20013;&#25991;&#28436;&#31034;&#36719;&#20214;PowerPoint 2000" TargetMode="External"/><Relationship Id="rId6" Type="http://schemas.openxmlformats.org/officeDocument/2006/relationships/hyperlink" Target="file:///&#31532;5&#31456;%20%20%20%20&#20013;&#25991;&#28436;&#31034;&#36719;&#20214;PowerPoint%202000.ppt#1. &#31532;5&#31456;    &#20013;&#25991;&#28436;&#31034;&#36719;&#20214;PowerPoint 2000" TargetMode="Externa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7.xml"/><Relationship Id="rId3" Type="http://schemas.openxmlformats.org/officeDocument/2006/relationships/hyperlink" Target="file:///&#31532;6&#31456;%20%20%20%20Internet&#24212;&#29992;&#22522;&#30784;.ppt#1. &#31532;6&#31456;    Internet&#24212;&#29992;&#22522;&#30784;" TargetMode="External"/><Relationship Id="rId4" Type="http://schemas.openxmlformats.org/officeDocument/2006/relationships/hyperlink" Target="file:///&#31532;6&#31456;%20%20%20%20Internet&#24212;&#29992;&#22522;&#30784;.ppt#1. &#31532;6&#31456;    Internet&#24212;&#29992;&#22522;&#30784;" TargetMode="External"/><Relationship Id="rId5" Type="http://schemas.openxmlformats.org/officeDocument/2006/relationships/hyperlink" Target="file:///&#31532;6&#31456;%20%20%20%20Internet&#24212;&#29992;&#22522;&#30784;.ppt#1. &#31532;6&#31456;    Internet&#24212;&#29992;&#22522;&#30784;" TargetMode="External"/><Relationship Id="rId6" Type="http://schemas.openxmlformats.org/officeDocument/2006/relationships/hyperlink" Target="file:///&#31532;6&#31456;%20%20%20%20Internet&#24212;&#29992;&#22522;&#30784;.ppt#1. &#31532;6&#31456;    Internet&#24212;&#29992;&#22522;&#30784;" TargetMode="External"/><Relationship Id="rId7" Type="http://schemas.openxmlformats.org/officeDocument/2006/relationships/hyperlink" Target="file:///&#31532;6&#31456;%20%20%20%20Internet&#24212;&#29992;&#22522;&#30784;.ppt#1. &#31532;6&#31456;    Internet&#24212;&#29992;&#22522;&#30784;" TargetMode="External"/><Relationship Id="rId8" Type="http://schemas.openxmlformats.org/officeDocument/2006/relationships/hyperlink" Target="file:///&#31532;6&#31456;%20%20%20%20Internet&#24212;&#29992;&#22522;&#30784;.ppt#1. &#31532;6&#31456;    Internet&#24212;&#29992;&#22522;&#30784;" TargetMode="External"/><Relationship Id="rId9" Type="http://schemas.openxmlformats.org/officeDocument/2006/relationships/slide" Target="slide4.xml"/><Relationship Id="rId10" Type="http://schemas.openxmlformats.org/officeDocument/2006/relationships/slide" Target="slide7.xml"/><Relationship Id="rId1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772400" cy="14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ffffff"/>
                </a:solidFill>
                <a:uFillTx/>
                <a:latin typeface="华文行楷"/>
                <a:ea typeface="华文行楷"/>
                <a:hlinkClick r:id="rId1"/>
              </a:rPr>
              <a:t>计算机文化基础教程_x000b_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Engravers MT"/>
                <a:ea typeface="华文行楷"/>
                <a:hlinkClick r:id="rId2"/>
              </a:rPr>
              <a:t>(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Engravers MT"/>
                <a:ea typeface="华文行楷"/>
                <a:hlinkClick r:id="rId3"/>
              </a:rPr>
              <a:t>Windows 98+Office 2000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Engravers MT"/>
                <a:ea typeface="华文行楷"/>
                <a:hlinkClick r:id="rId4"/>
              </a:rPr>
              <a:t>版)</a:t>
            </a:r>
            <a:endParaRPr b="1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504960" y="3276720"/>
            <a:ext cx="464796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楷体_GB2312"/>
              </a:rPr>
              <a:t>主　编</a:t>
            </a:r>
            <a:r>
              <a:rPr b="1" lang="zh-CN" sz="2400" spc="-1" strike="noStrike">
                <a:solidFill>
                  <a:srgbClr val="ffffff"/>
                </a:solidFill>
                <a:latin typeface="Arial Narrow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楷体_GB2312"/>
              </a:rPr>
              <a:t>唐伟奇　邓顺川　</a:t>
            </a:r>
            <a:r>
              <a:rPr b="1" lang="zh-CN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楷体_GB2312"/>
              </a:rPr>
              <a:t>副主编：刘　淳　陈　川　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楷体_GB2312"/>
              </a:rPr>
              <a:t>             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楷体_GB2312"/>
              </a:rPr>
              <a:t>袁晓红　王淑清 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0" name="R03" descr=""/>
          <p:cNvPicPr/>
          <p:nvPr/>
        </p:nvPicPr>
        <p:blipFill>
          <a:blip r:embed="rId5"/>
          <a:stretch/>
        </p:blipFill>
        <p:spPr>
          <a:xfrm>
            <a:off x="2743200" y="3411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1" name="R03" descr=""/>
          <p:cNvPicPr/>
          <p:nvPr/>
        </p:nvPicPr>
        <p:blipFill>
          <a:blip r:embed="rId6"/>
          <a:stretch/>
        </p:blipFill>
        <p:spPr>
          <a:xfrm>
            <a:off x="2743200" y="4038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2" name="R03" descr=""/>
          <p:cNvPicPr/>
          <p:nvPr/>
        </p:nvPicPr>
        <p:blipFill>
          <a:blip r:embed="rId7"/>
          <a:stretch/>
        </p:blipFill>
        <p:spPr>
          <a:xfrm>
            <a:off x="2743200" y="46483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143000" y="0"/>
            <a:ext cx="53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楷体_GB2312"/>
              </a:rPr>
              <a:t>21</a:t>
            </a:r>
            <a:r>
              <a:rPr b="1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楷体_GB2312"/>
              </a:rPr>
              <a:t>世纪高职高专新概念教材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6320" y="64008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中国水利水电出版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3724-DFEA-4E43-B89C-4B979FDCF35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7FCE08-0C49-40ED-8F21-E7BDCEFD1033}" type="datetime1">
              <a:rPr lang="en-US"/>
              <a:t>07/30/26</a:t>
            </a:fld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7509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ffff"/>
                </a:solidFill>
                <a:latin typeface="Arial Black"/>
              </a:rPr>
              <a:t>目     录</a:t>
            </a:r>
            <a:endParaRPr b="1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章    计算机基础知识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黑体"/>
              </a:rPr>
              <a:t>第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黑体"/>
              </a:rPr>
              <a:t>章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黑体"/>
              </a:rPr>
              <a:t>中文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Windows 98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黑体"/>
              </a:rPr>
              <a:t>操作系统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章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文字处理系统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Word 2000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章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电子表格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Excel 2000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章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中文演示软件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PowerPoint 2000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章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Internet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应用基础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618120"/>
            <a:ext cx="6781680" cy="64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  <a:ea typeface="黑体"/>
                <a:hlinkClick r:id="rId1"/>
              </a:rPr>
              <a:t>第1章    计算机基础知识</a:t>
            </a:r>
            <a:endParaRPr b="1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47560" y="2209680"/>
            <a:ext cx="6738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.1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概述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.2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数字化信息编码与数据表示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.3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微型计算机系统的组成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.4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多媒体技术应用基础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.5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计算机数据的安全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18120"/>
            <a:ext cx="7772400" cy="64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 Black"/>
                <a:ea typeface="黑体"/>
                <a:hlinkClick r:id="rId1"/>
              </a:rPr>
              <a:t>第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  <a:ea typeface="黑体"/>
                <a:hlinkClick r:id="rId2"/>
              </a:rPr>
              <a:t>2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  <a:ea typeface="黑体"/>
                <a:hlinkClick r:id="rId3"/>
              </a:rPr>
              <a:t>章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  <a:ea typeface="黑体"/>
                <a:hlinkClick r:id="rId4"/>
              </a:rPr>
              <a:t>   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  <a:ea typeface="黑体"/>
                <a:hlinkClick r:id="rId5"/>
              </a:rPr>
              <a:t>中文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  <a:ea typeface="黑体"/>
                <a:hlinkClick r:id="rId6"/>
              </a:rPr>
              <a:t>Windows 98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  <a:ea typeface="黑体"/>
                <a:hlinkClick r:id="rId7"/>
              </a:rPr>
              <a:t>操作系统</a:t>
            </a:r>
            <a:endParaRPr b="1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3520" y="2285640"/>
            <a:ext cx="71629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1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中文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98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概述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2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中文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98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的基本知识与操作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3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中文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98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的资源管理器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4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中文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98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的控制面板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5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中文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9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的附件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6    Windows  9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中文输入法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541800"/>
            <a:ext cx="7772400" cy="64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  <a:ea typeface="黑体"/>
                <a:hlinkClick r:id="rId1"/>
              </a:rPr>
              <a:t>第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2"/>
              </a:rPr>
              <a:t>3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  <a:ea typeface="黑体"/>
                <a:hlinkClick r:id="rId3"/>
              </a:rPr>
              <a:t>章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4"/>
              </a:rPr>
              <a:t>    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  <a:ea typeface="黑体"/>
                <a:hlinkClick r:id="rId5"/>
              </a:rPr>
              <a:t>文字处理系统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6"/>
              </a:rPr>
              <a:t>Word 2000 </a:t>
            </a:r>
            <a:endParaRPr b="1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28954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133720" y="22096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3.1    Word 2000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概述 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3.2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文档的基本操作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3.3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文档的排版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3.4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表格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3.5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高级排版操作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3.6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邮件合并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541800"/>
            <a:ext cx="7391520" cy="64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  <a:ea typeface="黑体"/>
                <a:hlinkClick r:id="rId1"/>
              </a:rPr>
              <a:t>第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2"/>
              </a:rPr>
              <a:t>4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  <a:ea typeface="黑体"/>
                <a:hlinkClick r:id="rId3"/>
              </a:rPr>
              <a:t>章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4"/>
              </a:rPr>
              <a:t>   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  <a:ea typeface="黑体"/>
                <a:hlinkClick r:id="rId5"/>
              </a:rPr>
              <a:t>电子表格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6"/>
              </a:rPr>
              <a:t>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7"/>
              </a:rPr>
              <a:t>Excel 2000</a:t>
            </a:r>
            <a:endParaRPr b="1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520" y="2209320"/>
            <a:ext cx="6629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1    Excel 2000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中文版的启动与退出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2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创建表格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.3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工作表的编辑和格式化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.4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创建图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.5    Excel 2000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的数据处理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.6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建立和编辑数据透视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.7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页面设置和打印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18120"/>
            <a:ext cx="7772400" cy="64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  <a:ea typeface="黑体"/>
                <a:hlinkClick r:id="rId1"/>
              </a:rPr>
              <a:t>第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2"/>
              </a:rPr>
              <a:t>5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  <a:ea typeface="黑体"/>
                <a:hlinkClick r:id="rId3"/>
              </a:rPr>
              <a:t>章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4"/>
              </a:rPr>
              <a:t>    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  <a:ea typeface="黑体"/>
                <a:hlinkClick r:id="rId5"/>
              </a:rPr>
              <a:t>中文演示软件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6"/>
              </a:rPr>
              <a:t>PowerPoint 2000</a:t>
            </a:r>
            <a:endParaRPr b="1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904760" y="2133720"/>
            <a:ext cx="657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5.1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中文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PowerPoint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概述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5.2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中文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PowerPoint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演示文稿的创建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5.3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幻灯片的处理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5.4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演示及打印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0" y="3048120"/>
            <a:ext cx="3809880" cy="5302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66"/>
                </a:solidFill>
                <a:latin typeface="Arial Narrow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6.1   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计算机网络基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4572000" y="3809880"/>
            <a:ext cx="3886200" cy="52704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6.2    Internet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基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4572000" y="5334120"/>
            <a:ext cx="3886200" cy="49032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6.4    IE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浏览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52480" y="1477800"/>
            <a:ext cx="6477120" cy="57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  <a:ea typeface="黑体"/>
                <a:hlinkClick r:id="rId3"/>
              </a:rPr>
              <a:t>第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4"/>
              </a:rPr>
              <a:t>6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  <a:ea typeface="黑体"/>
                <a:hlinkClick r:id="rId5"/>
              </a:rPr>
              <a:t>章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6"/>
              </a:rPr>
              <a:t>   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7"/>
              </a:rPr>
              <a:t>Internet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  <a:ea typeface="黑体"/>
                <a:hlinkClick r:id="rId8"/>
              </a:rPr>
              <a:t>应用基础</a:t>
            </a:r>
            <a:endParaRPr b="1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" name="">
            <a:hlinkClick r:id="rId9" action="ppaction://hlinksldjump"/>
          </p:cNvPr>
          <p:cNvSpPr/>
          <p:nvPr/>
        </p:nvSpPr>
        <p:spPr>
          <a:xfrm>
            <a:off x="4572000" y="4572000"/>
            <a:ext cx="3886200" cy="53352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6.3   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接入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>
            <a:hlinkClick r:id="rId10" action="ppaction://hlinksldjump"/>
          </p:cNvPr>
          <p:cNvSpPr/>
          <p:nvPr/>
        </p:nvSpPr>
        <p:spPr>
          <a:xfrm>
            <a:off x="4572000" y="6019920"/>
            <a:ext cx="3886200" cy="4762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6.5   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电子邮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171440" y="3123720"/>
            <a:ext cx="640080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6897-B6B0-471E-A0E0-244AD6E7405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9C425D-6249-4848-9F0E-FE5BEC67D8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7509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ffff"/>
                </a:solidFill>
                <a:latin typeface="Arial Black"/>
              </a:rPr>
              <a:t>欢迎您使用</a:t>
            </a:r>
            <a:endParaRPr b="1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2640" y="3047760"/>
            <a:ext cx="8001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计算机文化基础教程</a:t>
            </a:r>
            <a:br>
              <a:rPr sz="3600"/>
            </a:br>
            <a:r>
              <a:rPr b="0" lang="zh-CN" sz="2800" spc="-1" strike="noStrike">
                <a:solidFill>
                  <a:srgbClr val="ffffff"/>
                </a:solidFill>
                <a:latin typeface="Engravers MT"/>
                <a:ea typeface="华文行楷"/>
              </a:rPr>
              <a:t>(Windows 98+Office 2000</a:t>
            </a:r>
            <a:r>
              <a:rPr b="0" lang="zh-CN" sz="2800" spc="-1" strike="noStrike">
                <a:solidFill>
                  <a:srgbClr val="ffffff"/>
                </a:solidFill>
                <a:latin typeface="Engravers MT"/>
                <a:ea typeface="华文行楷"/>
              </a:rPr>
              <a:t>版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">
            <a:hlinkClick r:id="" action="ppaction://hlinkshowjump?jump=endshow"/>
          </p:cNvPr>
          <p:cNvSpPr/>
          <p:nvPr/>
        </p:nvSpPr>
        <p:spPr>
          <a:xfrm>
            <a:off x="7086600" y="6019920"/>
            <a:ext cx="1371600" cy="53316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5545" h="21600">
                <a:moveTo>
                  <a:pt x="0" y="0"/>
                </a:moveTo>
                <a:lnTo>
                  <a:pt x="55545" y="0"/>
                </a:lnTo>
                <a:lnTo>
                  <a:pt x="55545" y="21600"/>
                </a:lnTo>
                <a:lnTo>
                  <a:pt x="0" y="21600"/>
                </a:lnTo>
                <a:close/>
              </a:path>
              <a:path fill="lightenLess" w="55545" h="21600">
                <a:moveTo>
                  <a:pt x="0" y="0"/>
                </a:moveTo>
                <a:lnTo>
                  <a:pt x="55545" y="0"/>
                </a:lnTo>
                <a:lnTo>
                  <a:pt x="54145" y="1400"/>
                </a:lnTo>
                <a:lnTo>
                  <a:pt x="1400" y="1400"/>
                </a:lnTo>
                <a:close/>
              </a:path>
              <a:path fill="darken" w="55545" h="21600">
                <a:moveTo>
                  <a:pt x="55545" y="0"/>
                </a:moveTo>
                <a:lnTo>
                  <a:pt x="55545" y="21600"/>
                </a:lnTo>
                <a:lnTo>
                  <a:pt x="54145" y="20200"/>
                </a:lnTo>
                <a:lnTo>
                  <a:pt x="54145" y="1400"/>
                </a:lnTo>
                <a:close/>
              </a:path>
              <a:path fill="darkenLess" w="55545" h="21600">
                <a:moveTo>
                  <a:pt x="55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45" y="20200"/>
                </a:lnTo>
                <a:close/>
              </a:path>
              <a:path fill="lighten" w="55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45" h="21600">
                <a:moveTo>
                  <a:pt x="31271" y="10800"/>
                </a:moveTo>
                <a:lnTo>
                  <a:pt x="20766" y="17806"/>
                </a:lnTo>
                <a:lnTo>
                  <a:pt x="20766" y="3794"/>
                </a:lnTo>
                <a:close/>
              </a:path>
              <a:path fill="darken" w="55545" h="21600">
                <a:moveTo>
                  <a:pt x="33117" y="3794"/>
                </a:moveTo>
                <a:lnTo>
                  <a:pt x="33117" y="17806"/>
                </a:lnTo>
                <a:lnTo>
                  <a:pt x="34779" y="17806"/>
                </a:lnTo>
                <a:lnTo>
                  <a:pt x="34779" y="3794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sjf</cp:lastModifiedBy>
  <dcterms:modified xsi:type="dcterms:W3CDTF">2001-09-07T07:04:01Z</dcterms:modified>
  <cp:revision>9</cp:revision>
  <dc:subject/>
  <dc:title>PowerPoint 演示文稿</dc:title>
</cp:coreProperties>
</file>